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73FB-7F69-4A11-A982-96DFA425B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d earlier writers writte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ethic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s the chance? when 13 colonies decided or were forced to become indepe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d earlier writers writte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ethic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s the chance? when 13 colonies decided or were forced to become indepe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d earlier writers writte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ethic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s the chance? when 13 colonies decided or were forced to become indepe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d earlier writers writte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ethic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s the chance? when 13 colonies decided or were forced to become indepe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8BD-9C3D-4536-9088-1594E0C9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D41-66CC-46C3-9043-4AD53B07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F25-1D52-4AF5-8761-D9DD5C47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31E-11E1-4422-9731-350EC3EE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2FA-659C-48B8-8975-0BCCDA1F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982-9F50-4973-8D8D-E14293C4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755-303C-45FF-A926-2309206E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7A3-CBDA-4FF9-8D33-53C23AB5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DA1-95DD-462A-911D-7FC6474C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058-C399-4B69-ADD4-C21E07D3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E3F-5729-437E-B080-7B268612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210E-3883-4C21-965E-853091B2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24B6-D28C-4998-B368-7FB6837809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olutionary Peri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60-18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r not declared but Revolution had beg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at Philadelph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rick Henry in Virginia Assemb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mas Jefferson and the Declaration of Indepe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different rev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 inspired people to express their feelings as they had never done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an cities grew--population dou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s flourish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aters &amp; first Native American 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merican epic po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museu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merican art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njamin Frankli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Ameri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adelphia pri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-tale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oor Richard’s Alman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itty say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st popular of early alman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franklin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2114640" cy="26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54864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windows.umich.edu/cgi-bin/tour_def/people/enlightenment/franklin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lip of the foot you may soon recover, but a slip of the tongue you may never get o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sh and visitors smell in three d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mall leak will sink a great 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throw stones at your neighbors’ if your own windows are g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may keep a secret if two of them are dea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he Autobiograp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rrative in first 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lief that his life might serve as an example of behaviors to be both initiated and avoi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how he left Boston and became a printer in Philadelph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al per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rick Henry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ch in the Virginia Con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lared respect for those who disapproved of r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rhetorical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a logical argu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parallel id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must fight! I repeat it, sir, we must fight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atrick%20henry%20picture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1619280" cy="2057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4920" y="5867280"/>
            <a:ext cx="83818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rick Henry picture. [Online] available http://www.a1.com/history/phenrys.jpg,April 28,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sons for figh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ry will never be strong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d is on our side and He will provide al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 will come, like it or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omas Pa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erica 1775--right place, right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of Continental Ar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age read to defeated ar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d an argument by ana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Thomas%20Paine" descr=""/>
          <p:cNvPicPr/>
          <p:nvPr/>
        </p:nvPicPr>
        <p:blipFill>
          <a:blip r:embed="rId1"/>
          <a:stretch/>
        </p:blipFill>
        <p:spPr>
          <a:xfrm>
            <a:off x="4648320" y="2019240"/>
            <a:ext cx="3809880" cy="403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6172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dpipc.com/cdadesign/paine/home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762120"/>
            <a:ext cx="8076960" cy="5638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are the times that try men’s soul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mer soldier and the sunshine patriot w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crisis shrink from the service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ir country; but he that stands it n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erves the praise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s of man and woman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omas Paine’s Cott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ne’s final days were not spent in gl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final pamphlet was written here at his home in New Rochelle, New Y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Thomas%20Paine%20cottage" descr=""/>
          <p:cNvPicPr/>
          <p:nvPr/>
        </p:nvPicPr>
        <p:blipFill>
          <a:blip r:embed="rId1"/>
          <a:stretch/>
        </p:blipFill>
        <p:spPr>
          <a:xfrm>
            <a:off x="4648320" y="2727360"/>
            <a:ext cx="38098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son for wri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 their own l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events in those l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omas Jefferson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s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e 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mpion of r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thomas%20jefferson%20picture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2209680" cy="2867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" y="6019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whitehouse.gov/WH/glimpse/presidents/html/tj3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eclaration of Independ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th in reason that the world would understand American actions if explain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ans reasonable--King cruel and r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vil and legal rights viol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vernment exists by consent of gover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an Revolution--grand risky 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 literature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argument--clear beginning, middle, &amp;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 statement of su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ab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 with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ters from an American Farm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ten by De Crevecoe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ish great circle by using knowledge and skills of Old World to create and build a better 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the definition of an Ameri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illis Wheatle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widely applauded American po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poems defended American 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His Excellency General George Washingto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ghast at injustices befallen Ame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hington’s army compared to storm w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ifies England regretting the w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Voice of Her Ow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 first poem appeared when she was 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hillis%20Wheatley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49798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olutionary Wa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le event influencing the change of spirit in which they wr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 of Reas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mans could manage themselves and their societies without depending on authorities and past tra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ived on freed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ech, relig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question and 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arbitrary ru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ading Writers of Peri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ed themselves with state of life on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d little interest in the hereaft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ote about science, ethics, and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 chance to test ideas about freedom and progress by creating a new soc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merican Rev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ght not only with muskets but also with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mphlets--Common Sense by Thomas Pa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says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erty Song (“The Farmer and his Son’s return from a visit to the CAMP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603576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contemplator.com/folk5/ydoodle.htm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olution of “Yankee Doodle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appeared  during Fr.  &amp; Indian W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ng by British to poke fun at American country bump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ed American “Jonathans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ankee” derived from Dutch “jankee” or “little Joh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Rev. War, Brits were not allowed to play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nch played it to discomfort Brit. tro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r of words directed tow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mp Act of 176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ay for French and Indian War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wnsend Acts 176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ston Massacre 17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ston Tea Party 1773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sted a new tax on t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ss tea into har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glish Parliament closed Boston Har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d food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pped tr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raged citiz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0T20:55:00Z</dcterms:created>
  <dc:creator>Redfield Public School</dc:creator>
  <dc:description/>
  <dc:language>en-US</dc:language>
  <cp:lastModifiedBy>RPS</cp:lastModifiedBy>
  <dcterms:modified xsi:type="dcterms:W3CDTF">2004-03-19T05:30:53Z</dcterms:modified>
  <cp:revision>3</cp:revision>
  <dc:subject/>
  <dc:title>Revolutionary Period</dc:title>
</cp:coreProperties>
</file>